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8B7-4DDF-4117-BCC9-DA9C1D5C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FCF-7BFA-4F05-84B8-48A8CC94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DAA-31BD-4D6B-BA52-BF665391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FDE-7D4B-420A-9FE9-624733E9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CF88-5D93-4009-AB08-E31D94BC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0A4C-F24B-43DE-9575-2096D618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0521-7E1D-49F1-B863-59106F60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3FDE-C4E3-428F-8C67-77D4278D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6D22-47FC-468C-ACA0-919BE6F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55B-1A6A-47D8-BE6D-EEA11C12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B708-5D38-4A46-86DD-55476AF5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23D-763D-41E4-BF08-768DB0B3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7A57-4189-4332-AC32-A1B2BC2F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83F9-5892-4EE7-A8D6-BBF9E4A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B491-68B3-4DF8-809C-CE23A590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A2C4-1C90-43CC-8BEB-C95BE04E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AA6-8B0A-47A1-9347-AA1D2B48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61E-8141-4BEF-B12B-E3123BC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750-446A-4727-8E2A-1A693277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738-63A6-4C74-8B81-7A77F75D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C1D-2D56-4442-AEF5-E30ECF7E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E25-F561-4A51-BA08-FEB5AF5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C2C-15B6-49EE-AEAC-96C050A2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052-1BC5-4B96-BC15-F3205D3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D282-AF4B-4AB2-BE24-41BA7B0B458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6226-70FA-4E47-9EBB-C53502A3557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438280" y="522360"/>
            <a:ext cx="45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e14"/>
                </a:solidFill>
                <a:latin typeface="Arial"/>
              </a:rPr>
              <a:t>Personal</a:t>
            </a:r>
            <a:r>
              <a:rPr b="1" lang="en-US" sz="3200" spc="-1" strike="noStrike">
                <a:solidFill>
                  <a:srgbClr val="54547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e0e14"/>
                </a:solidFill>
                <a:latin typeface="Arial"/>
              </a:rPr>
              <a:t>Bio-Po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05740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1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First Na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2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Four words that tell about yo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3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Son or Daughter of _________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4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Love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name 3 people or thing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5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feel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feeling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6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need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item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7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give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item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8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fears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item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9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Who would like to see 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(3 people or event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10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Resident of Forest City, N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ine 11</a:t>
            </a:r>
            <a:r>
              <a:rPr b="1" lang="en-US" sz="2400" spc="-1" strike="noStrike">
                <a:solidFill>
                  <a:srgbClr val="0e0e1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e0e14"/>
                </a:solidFill>
                <a:latin typeface="Arial"/>
              </a:rPr>
              <a:t>Last na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121932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irections:  Follow the list below.  If a word is written in bolded print, you wil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eed to write it on your paper.  The other words give you specific direction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2:51:15Z</dcterms:created>
  <dc:creator>Rutherford County Schools</dc:creator>
  <dc:description/>
  <dc:language>en-US</dc:language>
  <cp:lastModifiedBy>Rutherford County Schools</cp:lastModifiedBy>
  <dcterms:modified xsi:type="dcterms:W3CDTF">2006-11-02T03:04:52Z</dcterms:modified>
  <cp:revision>2</cp:revision>
  <dc:subject/>
  <dc:title>Slide 1</dc:title>
</cp:coreProperties>
</file>